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723-C9FB-4CF8-9C98-DE63E3A4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C30-E779-40EC-A523-4E30A93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965-992E-42C0-8879-33005D3A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F42-343C-472D-86A2-B1C1C9FC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FFF6-76B4-4C26-AE7C-0CB7197C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6700-9514-4E00-ACAE-369DF66F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3418-9A1C-4752-A433-E965A74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524F-97B8-4245-BF83-E98C573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DD0-1D7E-4D5E-B17D-D64A2C6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7A1C-BD89-4565-BE17-C0FEAF2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6163-9E81-404D-B68A-48E3CB6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8D9-5275-46E5-892F-939BE75F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872B-C7C0-4352-AFEF-290AD20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5325-5BF6-4563-85EC-CFD952C6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09F-693E-451D-A20D-5063AF13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02D3-B7EC-4C57-B806-9E4F610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A60B-9C12-4DF8-B993-136AF459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D73-9AC9-47C7-8CC3-B0F5868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DA7-A46E-49C7-9557-BFE338A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D05-4BFB-442C-9F91-D5FB5DD3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500-A373-4F2F-A964-57D05CE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828-84E4-4CC5-A6BA-26AF8C4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818-C0EC-452E-B989-E017E95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E69-3CF8-4102-8D81-92B42A7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CF3-77C1-41BB-BE4B-586DB731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E016-DE2E-4356-BF55-AB65CC3F4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ditarod.com/" TargetMode="External"/><Relationship Id="rId2" Type="http://schemas.openxmlformats.org/officeDocument/2006/relationships/hyperlink" Target="http://teacher.scholastic.com/activities/Iditarod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itarod Resear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Iditaro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is the Iditarod run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 does the Iditarod take plac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is the race run? (History behind the race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participates in the Iditaro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is the race set up?  What are the rul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Diphtheri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hynow.dumka.us/grfx/Iditarod_map.jpg"/>
          <p:cNvPicPr/>
          <p:nvPr/>
        </p:nvPicPr>
        <p:blipFill>
          <a:blip r:embed="rId1"/>
          <a:stretch/>
        </p:blipFill>
        <p:spPr>
          <a:xfrm>
            <a:off x="838080" y="322200"/>
            <a:ext cx="533412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finders to use for research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1"/>
              </a:rPr>
              <a:t>http://www.iditarod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49bd"/>
                </a:solidFill>
                <a:uFillTx/>
                <a:latin typeface="Arial"/>
                <a:hlinkClick r:id="rId2"/>
              </a:rPr>
              <a:t>http://teacher.scholastic.com/activities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adn.com/iditaro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2.grand-forks.k12.nd.us/ms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is is an older site created by a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ditarodblogs.com/teacher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each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dsc.discovery.com/tv/iditarod/iditarod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cludes vide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54:28Z</dcterms:created>
  <dc:creator>jukese</dc:creator>
  <dc:description/>
  <dc:language>en-US</dc:language>
  <cp:lastModifiedBy>jukese</cp:lastModifiedBy>
  <dcterms:modified xsi:type="dcterms:W3CDTF">2009-03-31T16:04:39Z</dcterms:modified>
  <cp:revision>2</cp:revision>
  <dc:subject/>
  <dc:title>Iditarod 2009</dc:title>
</cp:coreProperties>
</file>